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03B-A15E-4FAE-9FCA-9149BFF0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AC8-61BD-4A07-8187-14442FEB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553-8808-42DC-9FD6-58DBE68C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506-C8BB-48AC-B221-5D255A18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F43-F26C-4B1E-ACAC-DDFDD234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975-85AE-4DFA-8783-7874C00C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013-CA5B-4A91-A766-FAB9597D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64E-5A65-4CCC-A3C4-B6A71B5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09C-CCC0-4BFC-8555-61B7EBFA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E42-76E5-4398-BB0D-54A9F6E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BDF-9A9E-4FF3-8AA0-13A6E6B7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7B7-266F-4B76-A66D-95B8995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88CC-58E4-4E18-BD57-34FFF9FCB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05000"/>
            <a:ext cx="8964720" cy="61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Живот има във погле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към Христ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сус зове: „Ела при Мен!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Земни богатства са суе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съкровище е сам Исус за ме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349360"/>
            <a:ext cx="90727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2. Внимавам във святи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Му сло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вярвам във обещаният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победата ми е гото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щом гледам на Спас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страдани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71640" y="-1800"/>
            <a:ext cx="71643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3. Когато поглежда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аз към Хрис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тоз мой Спасите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от грех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дава ми си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да се спа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от страшните прим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на Сатана!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0:05:31Z</dcterms:created>
  <dc:creator>TrifonTrifonow</dc:creator>
  <dc:description/>
  <dc:language>en-US</dc:language>
  <cp:lastModifiedBy>TrifonTrifonow</cp:lastModifiedBy>
  <dcterms:modified xsi:type="dcterms:W3CDTF">2005-11-22T09:10:15Z</dcterms:modified>
  <cp:revision>9</cp:revision>
  <dc:subject/>
  <dc:title>Slide 1</dc:title>
</cp:coreProperties>
</file>